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just">
              <a:lnSpc>
                <a:spcPct val="145000"/>
              </a:lnSpc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4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4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3760" y="745920"/>
            <a:ext cx="49672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4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B59B6-85B8-4E99-9EC4-CEB4CBAEC85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A8576-49A7-45EB-BA46-F61BF74730B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7D1B0-689C-4676-9FB0-49B91D799CB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E187A-F83A-4EE1-AC39-E7CD09ADE37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BB536-B367-464B-A699-688F557DA9A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55898-C9AB-4A85-98CB-CE10DE03052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01718-A15B-4BCD-9091-AE6B483CFBF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48F7C-42A9-4345-B3C4-6549C431040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CC091-A74A-4D0F-87E4-A8AC487450C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520FB-0F44-4867-8F83-C0716844A45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54838-4361-488A-B516-03937022549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1F872-7A10-48A8-8E39-C5220AEBD25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27789-60D7-4D87-9068-C63DCCEAF85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FA19C-62E4-4914-A4D0-A3E09ADC0B6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AC6B8-FE35-4181-A8DE-5D2D7514C4C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FF5BB-EA4F-45E9-9DBF-47410B9F9B3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DB479-524A-423C-BBDD-6A23900A2A0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5C06B-C188-42EE-9D02-FAA1F03BE82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2148B-CF12-4E54-AAF1-BB4CBE026F3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F543-F9A4-4E2E-BE3C-15917EAC2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C9FD-92D1-4D0C-89B6-36707F6B6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BDC9-1FA9-42A4-9262-9D6626D13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A3A0-4205-4DCD-813A-E1A5B1E05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EF8B-C95B-4811-BF3F-1503B31CD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9A71-1D40-43C5-B152-BB0C03946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52BE-3C39-434D-9299-649C61476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898F-EA5A-4B9C-ACA9-5665BD0B2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1AB1-8A9A-4394-BB02-44CEFED37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7C5D-7FB8-451E-908B-F5A4EF8E0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E067-A9B2-4256-83EA-F6264CA4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CB4C-6AAB-4B74-B176-A7E899747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4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4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95CA4-6932-4341-980C-90EBF80AE4F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team.cz/cz/products/rp/logframe.pdf" TargetMode="External"/><Relationship Id="rId2" Type="http://schemas.openxmlformats.org/officeDocument/2006/relationships/hyperlink" Target="http://www.partnerstvi-jmk.cz/page.php?action=detail&amp;id=94" TargetMode="External"/><Relationship Id="rId3" Type="http://schemas.openxmlformats.org/officeDocument/2006/relationships/hyperlink" Target="http://www.logframe.cz/metoda.htm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sfcr.cz/" TargetMode="External"/><Relationship Id="rId2" Type="http://schemas.openxmlformats.org/officeDocument/2006/relationships/hyperlink" Target="https://forum.esfcr.cz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Specifická kritéria výzvy č. 76 </a:t>
            </a:r>
            <a:br>
              <a:rPr sz="3200"/>
            </a:b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692000" y="2492280"/>
            <a:ext cx="655164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493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35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4407e"/>
                </a:solidFill>
                <a:latin typeface="Arial"/>
              </a:rPr>
              <a:t>Seminář pro žadatele</a:t>
            </a:r>
            <a:br>
              <a:rPr sz="2800"/>
            </a:br>
            <a:r>
              <a:rPr b="1" lang="cs-CZ" sz="2800" spc="-1" strike="noStrike">
                <a:solidFill>
                  <a:srgbClr val="14407e"/>
                </a:solidFill>
                <a:latin typeface="Arial"/>
              </a:rPr>
              <a:t>OP LZZ – výzva č. 76 Rovné příležitosti žen a mužů na trhu práce a slaďování pracovního a rodinného živo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35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Praha/Brno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407e"/>
                </a:solidFill>
                <a:latin typeface="Arial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ostup vyplňování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efinovat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účel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, který má projekt splnit (jen jeden); čeho hodláme dosáhnout; skutečný motiv; změna, kterou chceme dosáhnout (i když jí třeba nedosáhne jenom jeden projekt). Účel vyjadřuje cíl, ne aktivity; bezprostřední důvod, proč se do projektu pouštíme. O naplnění změny usilujeme výstupy a výsledky (příp. i dopad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CO CHCEME DOSÁHNOUT, JESTLIŽE PROVEDEME AKTIV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. Účelem projektu ve výzvě 76 by mělo být zlepšení situace v definovaných oblastech trhu prá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Horizontální a vertikální rozdělení trhu 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Míra platové nerovnosti žen a muž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ístup zaměstnavatelů ke slaďování prac. a rodinného živ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Odbourávání genderových stereotyp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Firmy jsou motivovány zavézt relevantní opatření pro slaďování rodinného a pracovního života (MPS, regionu X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Šipka doprava 5"/>
          <p:cNvSpPr/>
          <p:nvPr/>
        </p:nvSpPr>
        <p:spPr>
          <a:xfrm>
            <a:off x="463680" y="3032280"/>
            <a:ext cx="647640" cy="36828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90" name="Šipka doprava 5"/>
          <p:cNvSpPr/>
          <p:nvPr/>
        </p:nvSpPr>
        <p:spPr>
          <a:xfrm>
            <a:off x="466560" y="5427720"/>
            <a:ext cx="648000" cy="368280"/>
          </a:xfrm>
          <a:prstGeom prst="rightArrow">
            <a:avLst>
              <a:gd name="adj1" fmla="val 50000"/>
              <a:gd name="adj2" fmla="val 50057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ostup vyplňování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efinovat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výstupy a výsledky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loužící pro dosažení účelu projektu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výstupy -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co se skutečně zrealizovalo; realizátoři projektu nesou za jejich dosažní přímou odpovědnost (za splnění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ředpokladů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); konkrétní popis toho, co se vytvoří, zdokonalí, inovuje…); je-li jich více -- nutno je popsat a očíslov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. provedené genderové audity ve firmá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ytvořená interní směrnice k zavádění relevantních opatř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ytvořená statistika využívání genderových opatřen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výsledky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- okamžité dopady projektu (čeho bude s ukončením projektu dosaženo) - používá se trpný rod (ve tvaru přídavného jména) popisující situaci na konci projektu (inovovaný produkt, motivované firmy pro prosazování tématu slaďován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. zlepšení přístupu firem v regionu XY k problematice slaďování rodinného  pracovního živ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lepšení zaměstnanosti v regionu díky využití genderových opatř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ostup vyplňování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efinovat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aktivity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sloužící k dosažení výstupů - ke každému výstupu přiřadit 2-4 aktivity se zdroji dostupnými pro vytvoření výstupů; činnosti, které jsou předmětem projektu (jejich logická a časová posloupnost) - jak bude projekt realizov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Genderový audit ve firmá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iskuzní kulatý stů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ytvoření interních směrnic ve firmá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edstavení výsledků zaměstnancům podni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apojení Úřadu práce ČR - propagace podpory slaďování při nabízení práce a při jednání s ostatními podniky zapojenými do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pracování statistiky využívání nových opatř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Kvantitativní výzkum a evaluace v regionu (firmá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ostup vyplňování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o vyplnění sloupce intervenčních cílů ověř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ertikální logiku pomocí </a:t>
            </a:r>
            <a:r>
              <a:rPr b="0" i="1" lang="cs-CZ" sz="1800" spc="-1" strike="noStrike">
                <a:solidFill>
                  <a:srgbClr val="143f7e"/>
                </a:solidFill>
                <a:latin typeface="Arial"/>
              </a:rPr>
              <a:t>Jestliže/Pak -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musí být uvedeny všechny faktory ovlivňující dosažení vyšší úrovně (dosažení vyšší úrovně je podmíněno splněním úrovně nižš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efinovat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objektivně ověřitelné ukazatele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a jednotlivých úrovních logického rámc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Řídit lze jen to, co lze měřit (u aktivit se uvádějí ukazatelé vstupů) - co, kolik, kdy, pro koho, kde. Pro měření jedné aktivity, výsledku či výstupů, a účelu - 2-3 ukazatel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i projektech financovaných ze strukturálních fondů je dobré vycházet ze seznamu monitorovacích ukazatelů pro dané opatř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15 firem projde genderovým auditem (počet podpořených osob X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20% zaměstnanců využije zavedených opatř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ostup vyplňování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efinovat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zdroje objektivního ověření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a jednotlivých úrovních logického rámce - pouze ukazatele, které je možno ověřit-- tj. validní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ejsou-li jasné zdroje, je nutno v projektu učinit opatření, které povedou k jejich získání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u aktivit -- časový údaj o začátku a ukončení každé ak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efinovat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předpoklady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na jednotlivých úrovních logického rámce - </a:t>
            </a: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rizika přeformulovat do pozitivní podoby jako předpoklady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Co předpokládáme o vnějších faktorech, na něž projekt nemá vliv, ale které mohou ovlivnit jeho realizaci a dlouhodobě i jeho udržitelnos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Odpovědi jsou strukturovány podle jednotlivých úrovní Cílů, Účelů, Výstupů a Aktivit projekt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sledním řádkem tohoto sloupce jsou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předběžné podmínky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(připravenost k realizaci), jejichž splnění podmiňuje zahájení celého projekt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. Příprava projektu a jeho schválení poskytovatelem dotace, schopný realizační tým a genderový expert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ostup vyplňování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6840" y="1412640"/>
            <a:ext cx="8218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Plátno 26"/>
          <p:cNvGrpSpPr/>
          <p:nvPr/>
        </p:nvGrpSpPr>
        <p:grpSpPr>
          <a:xfrm>
            <a:off x="1187280" y="1665360"/>
            <a:ext cx="6913800" cy="3995640"/>
            <a:chOff x="1187280" y="1665360"/>
            <a:chExt cx="6913800" cy="3995640"/>
          </a:xfrm>
        </p:grpSpPr>
        <p:sp>
          <p:nvSpPr>
            <p:cNvPr id="102" name="Obdélník 30"/>
            <p:cNvSpPr/>
            <p:nvPr/>
          </p:nvSpPr>
          <p:spPr>
            <a:xfrm>
              <a:off x="1187280" y="1665360"/>
              <a:ext cx="6913800" cy="39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45000"/>
                </a:lnSpc>
                <a:buClr>
                  <a:srgbClr val="143f7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pic>
          <p:nvPicPr>
            <p:cNvPr id="103" name="Picture 32" descr=""/>
            <p:cNvPicPr/>
            <p:nvPr/>
          </p:nvPicPr>
          <p:blipFill>
            <a:blip r:embed="rId1"/>
            <a:stretch/>
          </p:blipFill>
          <p:spPr>
            <a:xfrm>
              <a:off x="1187280" y="1838880"/>
              <a:ext cx="6361920" cy="316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Line 33"/>
            <p:cNvSpPr/>
            <p:nvPr/>
          </p:nvSpPr>
          <p:spPr>
            <a:xfrm>
              <a:off x="2945160" y="2590920"/>
              <a:ext cx="0" cy="1680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05" name="Text Box 34"/>
            <p:cNvSpPr/>
            <p:nvPr/>
          </p:nvSpPr>
          <p:spPr>
            <a:xfrm>
              <a:off x="2462040" y="249012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1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06" name="Text Box 35"/>
            <p:cNvSpPr/>
            <p:nvPr/>
          </p:nvSpPr>
          <p:spPr>
            <a:xfrm>
              <a:off x="2478240" y="398196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4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07" name="Text Box 36"/>
            <p:cNvSpPr/>
            <p:nvPr/>
          </p:nvSpPr>
          <p:spPr>
            <a:xfrm>
              <a:off x="7005240" y="450288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6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08" name="Text Box 37"/>
            <p:cNvSpPr/>
            <p:nvPr/>
          </p:nvSpPr>
          <p:spPr>
            <a:xfrm>
              <a:off x="2945160" y="257184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5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09" name="Text Box 38"/>
            <p:cNvSpPr/>
            <p:nvPr/>
          </p:nvSpPr>
          <p:spPr>
            <a:xfrm>
              <a:off x="2478240" y="293976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2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0" name="Text Box 39"/>
            <p:cNvSpPr/>
            <p:nvPr/>
          </p:nvSpPr>
          <p:spPr>
            <a:xfrm>
              <a:off x="2478240" y="344016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3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1" name="Line 40"/>
            <p:cNvSpPr/>
            <p:nvPr/>
          </p:nvSpPr>
          <p:spPr>
            <a:xfrm flipH="1" flipV="1">
              <a:off x="3251880" y="4213080"/>
              <a:ext cx="3805560" cy="637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2" name="Text Box 41"/>
            <p:cNvSpPr/>
            <p:nvPr/>
          </p:nvSpPr>
          <p:spPr>
            <a:xfrm>
              <a:off x="3498480" y="326664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8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3" name="Text Box 42"/>
            <p:cNvSpPr/>
            <p:nvPr/>
          </p:nvSpPr>
          <p:spPr>
            <a:xfrm>
              <a:off x="2931480" y="4908960"/>
              <a:ext cx="443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10</a:t>
              </a:r>
              <a:endParaRPr b="0" lang="en-US" sz="16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4" name="Text Box 43"/>
            <p:cNvSpPr/>
            <p:nvPr/>
          </p:nvSpPr>
          <p:spPr>
            <a:xfrm>
              <a:off x="3505320" y="274572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9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5" name="Text Box 44"/>
            <p:cNvSpPr/>
            <p:nvPr/>
          </p:nvSpPr>
          <p:spPr>
            <a:xfrm>
              <a:off x="3505320" y="378756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7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6" name="Line 45"/>
            <p:cNvSpPr/>
            <p:nvPr/>
          </p:nvSpPr>
          <p:spPr>
            <a:xfrm>
              <a:off x="3560760" y="4155480"/>
              <a:ext cx="34966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7" name="Line 46"/>
            <p:cNvSpPr/>
            <p:nvPr/>
          </p:nvSpPr>
          <p:spPr>
            <a:xfrm flipH="1" flipV="1">
              <a:off x="3498480" y="3750840"/>
              <a:ext cx="3558960" cy="404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8" name="Line 47"/>
            <p:cNvSpPr/>
            <p:nvPr/>
          </p:nvSpPr>
          <p:spPr>
            <a:xfrm>
              <a:off x="3560760" y="3634560"/>
              <a:ext cx="34966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9" name="Line 48"/>
            <p:cNvSpPr/>
            <p:nvPr/>
          </p:nvSpPr>
          <p:spPr>
            <a:xfrm flipH="1" flipV="1">
              <a:off x="3498480" y="3228480"/>
              <a:ext cx="3558960" cy="406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20" name="Line 49"/>
            <p:cNvSpPr/>
            <p:nvPr/>
          </p:nvSpPr>
          <p:spPr>
            <a:xfrm>
              <a:off x="3560760" y="3113280"/>
              <a:ext cx="34966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21" name="Line 50"/>
            <p:cNvSpPr/>
            <p:nvPr/>
          </p:nvSpPr>
          <p:spPr>
            <a:xfrm flipH="1" flipV="1">
              <a:off x="3498480" y="2707200"/>
              <a:ext cx="3558960" cy="406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22" name="Oval 51"/>
            <p:cNvSpPr/>
            <p:nvPr/>
          </p:nvSpPr>
          <p:spPr>
            <a:xfrm>
              <a:off x="1840680" y="1665360"/>
              <a:ext cx="6260400" cy="39956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45000"/>
                </a:lnSpc>
                <a:buClr>
                  <a:srgbClr val="143f7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23" name="Line 52"/>
            <p:cNvSpPr/>
            <p:nvPr/>
          </p:nvSpPr>
          <p:spPr>
            <a:xfrm>
              <a:off x="4295520" y="2359800"/>
              <a:ext cx="15966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24" name="Text Box 53"/>
            <p:cNvSpPr/>
            <p:nvPr/>
          </p:nvSpPr>
          <p:spPr>
            <a:xfrm>
              <a:off x="4295520" y="2339640"/>
              <a:ext cx="443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11</a:t>
              </a:r>
              <a:endParaRPr b="0" lang="en-US" sz="16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25" name="Text Box 54"/>
            <p:cNvSpPr/>
            <p:nvPr/>
          </p:nvSpPr>
          <p:spPr>
            <a:xfrm>
              <a:off x="5386320" y="2339640"/>
              <a:ext cx="443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12</a:t>
              </a:r>
              <a:endParaRPr b="0" lang="en-US" sz="1600" spc="-1" strike="noStrike">
                <a:solidFill>
                  <a:srgbClr val="143f7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ečné čtení matice log.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6840" y="1412640"/>
            <a:ext cx="8218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Obrázek 28" descr=""/>
          <p:cNvPicPr/>
          <p:nvPr/>
        </p:nvPicPr>
        <p:blipFill>
          <a:blip r:embed="rId1"/>
          <a:srcRect l="14214" t="33060" r="12230" b="10538"/>
          <a:stretch/>
        </p:blipFill>
        <p:spPr>
          <a:xfrm>
            <a:off x="611280" y="1596960"/>
            <a:ext cx="770580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alší zdr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6840" y="1412640"/>
            <a:ext cx="8218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143f7e"/>
                </a:solidFill>
                <a:latin typeface="Arial"/>
              </a:rPr>
              <a:t>Příručka pro řízení rozvojových partnerství, Ministerstvo práce a sociálních věcí, 2008, str. 28-42. Dostupné z WWW: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http://www.equalcr.cz/files/clanky/7/Prirucka_pro_rizeni_rozvojovych_partnerstvi.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CHUDOBA, Roman.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Formulace projektu metodou logického rámce.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ostupné z WWW: </a:t>
            </a: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team.cz/cz/products/rp/logframe.pdf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LACKO, Branislav.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Metody a techniky projektového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ř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ízení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in Sborník vybraných kapitol z přípravy a řízení projektů. Výukový materiál z projektu Euromanažer. Krajské zařízení pro další vzdělávání pedagogických pracovníků a informační centrum, Nový Jičín, příspěvková Organiz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Matice logického rámce. Metodický návod tvorby a použití logického rámce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 Modul III.Akreditovaný vzdělávací program Mobilní projektový inkubátor. Dostupné z WWW: </a:t>
            </a: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partnerstvi-jmk.cz/page.php?action=detail&amp;id=9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Metoda logického rámce.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ostupné z WWW: </a:t>
            </a: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logframe.cz/metoda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Národní ústav odborného vzdělávání.: </a:t>
            </a:r>
            <a:r>
              <a:rPr b="1" i="1" lang="cs-CZ" sz="1600" spc="-1" strike="noStrike">
                <a:solidFill>
                  <a:srgbClr val="143f7e"/>
                </a:solidFill>
                <a:latin typeface="Arial"/>
              </a:rPr>
              <a:t>Jak připravit projekty financované z evropských fondů v období 2007-2013 -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Možnosti čerpání prostředků</a:t>
            </a:r>
            <a:r>
              <a:rPr b="1" i="1" lang="cs-CZ" sz="1600" spc="-1" strike="noStrike">
                <a:solidFill>
                  <a:srgbClr val="143f7e"/>
                </a:solidFill>
                <a:latin typeface="Arial"/>
              </a:rPr>
              <a:t>,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Příprava a zpracování projektu</a:t>
            </a:r>
            <a:r>
              <a:rPr b="1" i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Konkrétní rady pro tvorbu a podávání projektu. 1. Vyd., Praha, 2008.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2400" spc="-1" strike="noStrike">
              <a:solidFill>
                <a:srgbClr val="d1131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43f7e"/>
                </a:solidFill>
                <a:latin typeface="Arial"/>
              </a:rPr>
              <a:t>Děkuji za pozorno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sfcr.c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://forum.esfcr.cz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pecifické kritérium – Princip partners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Hlavním smyslem tvorby partnerství 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         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úzká vzájemná spolupráce</a:t>
            </a: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různých typů organizací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, které disponují odlišnými zkušenostmi s řešením problematiky v dané oblasti (vymezené jak regionálně, tak i tematicky) při realizaci projektu. Partneři se podílejí na fungování a naplňování cíle společného projektu, spoluúčast všech partnerů na projektu je podstatná a nezastupitelná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  <a:ea typeface="Calibri"/>
              </a:rPr>
              <a:t>Český partn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  <a:ea typeface="Calibri"/>
              </a:rPr>
              <a:t>s finančním příspěvk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  <a:ea typeface="Calibri"/>
              </a:rPr>
              <a:t>bez finančního příspěvk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  <a:ea typeface="Calibri"/>
              </a:rPr>
              <a:t> 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  <a:ea typeface="Calibri"/>
              </a:rPr>
              <a:t>musí patřit mezi oprávněné žadatele ve výzvě č. 76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  <a:ea typeface="Calibri"/>
              </a:rPr>
              <a:t>Výjimku tvoří Úřad práce ČR, který může být partnerem, ovšem bez finančního příspěvk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  <a:ea typeface="Calibri"/>
              </a:rPr>
              <a:t>Ostatní organizační složky státu a jimi zřizované organizace mohou být pouze spolupracujícími organizacemi, nikoli partne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Šipka doprava 3"/>
          <p:cNvSpPr/>
          <p:nvPr/>
        </p:nvSpPr>
        <p:spPr>
          <a:xfrm>
            <a:off x="587520" y="1700280"/>
            <a:ext cx="647640" cy="369720"/>
          </a:xfrm>
          <a:prstGeom prst="rightArrow">
            <a:avLst>
              <a:gd name="adj1" fmla="val 50000"/>
              <a:gd name="adj2" fmla="val 49834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53" name="Šipka doprava 4"/>
          <p:cNvSpPr/>
          <p:nvPr/>
        </p:nvSpPr>
        <p:spPr>
          <a:xfrm>
            <a:off x="528480" y="4446720"/>
            <a:ext cx="648000" cy="368280"/>
          </a:xfrm>
          <a:prstGeom prst="rightArrow">
            <a:avLst>
              <a:gd name="adj1" fmla="val 50000"/>
              <a:gd name="adj2" fmla="val 50057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pecifické kritérium – Princip partners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vaha právních vztahů mezi žadatelem a jeho partnery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nesmí být založena na poskytování služeb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běžně dostupných na trh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Realizace principu partnerství nesmí být v rozporu s příslušnými právními předpisy ČR, zejména principu partnerství nesmí být zneužito k obcházení zákona o veřejných zakázká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Bodové zvýhodnění v rámci výzvy č. 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artnerství stejného typu subjektů – např. NNO a NNO, podnikatelský subjekt a podnikatelský subjekt – </a:t>
            </a:r>
            <a:r>
              <a:rPr b="1" lang="cs-CZ" sz="1800" spc="-1" strike="noStrike">
                <a:solidFill>
                  <a:srgbClr val="c00000"/>
                </a:solidFill>
                <a:latin typeface="Arial"/>
              </a:rPr>
              <a:t>0 bod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artnerství dvou typů subjektů – např. NNO a podnikatelský subjekt, NNO a místní samospráva, podnikatelský subjekt a místní samospráva – </a:t>
            </a:r>
            <a:r>
              <a:rPr b="1" lang="cs-CZ" sz="1800" spc="-1" strike="noStrike">
                <a:solidFill>
                  <a:srgbClr val="c00000"/>
                </a:solidFill>
                <a:latin typeface="Arial"/>
              </a:rPr>
              <a:t>6 bod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c) partnerství tří a více typů subjektů – např. NNO, podnikatelský subjekt a místní samospráva – </a:t>
            </a:r>
            <a:r>
              <a:rPr b="1" lang="cs-CZ" sz="1800" spc="-1" strike="noStrike">
                <a:solidFill>
                  <a:srgbClr val="c00000"/>
                </a:solidFill>
                <a:latin typeface="Arial"/>
              </a:rPr>
              <a:t>12 bod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a jeden typ organizace jsou považovány všechny její právní form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očet partnerů není rozhodující, body jsou přiděleny na základě propojení různých typů organizac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Šipka doprava 4"/>
          <p:cNvSpPr/>
          <p:nvPr/>
        </p:nvSpPr>
        <p:spPr>
          <a:xfrm>
            <a:off x="555480" y="1341360"/>
            <a:ext cx="648000" cy="368280"/>
          </a:xfrm>
          <a:prstGeom prst="rightArrow">
            <a:avLst>
              <a:gd name="adj1" fmla="val 50000"/>
              <a:gd name="adj2" fmla="val 50057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57" name="Šipka doprava 5"/>
          <p:cNvSpPr/>
          <p:nvPr/>
        </p:nvSpPr>
        <p:spPr>
          <a:xfrm>
            <a:off x="582480" y="4941720"/>
            <a:ext cx="649440" cy="368640"/>
          </a:xfrm>
          <a:prstGeom prst="rightArrow">
            <a:avLst>
              <a:gd name="adj1" fmla="val 50000"/>
              <a:gd name="adj2" fmla="val 50119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Výhody, klady, příležitosti partners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chopnost identifikovat problémy a potřeby a vyvinout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účinné způsoby jejich řeš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Rozšíření projektových zdrojů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– dovedností, znalostí, organizační kapacit, finančních zdroj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třet rozmanitých zkušeností a myšlenek –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tvůrčí řešení a inov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Mnohostranné řešení mnohostranných (komplexních) problémů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– každý přispívá něčím, co ti druzí nemají, neznají nebo neum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dnikatelský sektor a veřejný sektor –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ení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eřejný sektor a neziskový sektor –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zájmy a potřeby li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 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eziskový a podnikatelský sektor –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pružnost, iniciativa, efektiv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 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eziskový sektor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strádá často finanční zdroje (materiál i lid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dnikatelský sektor – postrádá veřejný záj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eřejný sektor – postrádá podnikavost, odvahu začít, pružnos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efektiv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Synergie – partneři toho spolu dokáží víc, než každý sám (1+1&lt; 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Šipka doprava 5"/>
          <p:cNvSpPr/>
          <p:nvPr/>
        </p:nvSpPr>
        <p:spPr>
          <a:xfrm>
            <a:off x="539640" y="3500280"/>
            <a:ext cx="647640" cy="370080"/>
          </a:xfrm>
          <a:prstGeom prst="rightArrow">
            <a:avLst>
              <a:gd name="adj1" fmla="val 50000"/>
              <a:gd name="adj2" fmla="val 49786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61" name="Šipka doprava 4"/>
          <p:cNvSpPr/>
          <p:nvPr/>
        </p:nvSpPr>
        <p:spPr>
          <a:xfrm>
            <a:off x="539640" y="4446720"/>
            <a:ext cx="647640" cy="369720"/>
          </a:xfrm>
          <a:prstGeom prst="rightArrow">
            <a:avLst>
              <a:gd name="adj1" fmla="val 50000"/>
              <a:gd name="adj2" fmla="val 49834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Nevýhody, zápory, rizika partners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íc partnerů = víc lidí = více pohledů na věc </a:t>
            </a: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→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více času a úsilí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třebného k přesvědčení ostatních, k dosažení konsensu a k přijetí rozhodnu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íjemce si nemůže dělat vše jen dle svého – musí brát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ohledy na partn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polupráce postavena na jasném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smluvním a právním základě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– jeden z partnerů má konečnou zodpovědnost za projek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artnerství vyžaduje řízení a s tím i dobré komunikační doved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Invalidní partnerství – partnerství bez reálné rovnoprávnosti, bez podílu na rozhodování či bez dostatečné informovanosti některých člen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00000"/>
                </a:solidFill>
                <a:latin typeface="Arial"/>
              </a:rPr>
              <a:t>Pozor </a:t>
            </a: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!!!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– na partnery, kteří jsou neužiteční, mají nevhodné cíle, nebo chtějí ostatní jen využít. Do projektu nic nepřináší – peníze, know how či lidské zdroje, ale chtějí pouze „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omoci s realizací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“ jakožto dodavatel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Mít či nemít partnera? Pokud ano, koh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Důležité otáz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Co partneři do projektu přineso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Jsou uznatelní v rámci výzvy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Jaká bude partnerova úloha v projekt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Jaký bude jejich závazek, jak ho přijmou a jak ho naplní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Jak logicky do sebe zapadají jednotlivé úlohy partnerů? – nejsou někde mezery? Nedublují se určité aktivity? Existují třecí plochy, konflikty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ři přípravě partnerského projek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elze ušetřit čas – je třeba mnoho setkání, diskuzí či alespoň e-mail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ajistit rovnost účastníků – každý by měl něčím přispět – silnější identifikace s projek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Je opravdu společná ochota podílet se na získávání a využívání společných finančních prostředků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pecifické kritérium – Metoda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Hodnotí se použití metody logického rámce, která umožňuje navržení a uspořádání základních charakteristik projektu ve vzájemných souvisloste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nitřní logika projektu prokázaná v matici logického rámce, je založena na principu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říčiny a důsledk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hora dolů: </a:t>
            </a:r>
            <a:r>
              <a:rPr b="0" i="1" lang="cs-CZ" sz="1800" spc="-1" strike="noStrike">
                <a:solidFill>
                  <a:srgbClr val="143f7e"/>
                </a:solidFill>
                <a:latin typeface="Arial"/>
              </a:rPr>
              <a:t>Aby – Je třeba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, zdola nahoru: </a:t>
            </a:r>
            <a:r>
              <a:rPr b="0" i="1" lang="cs-CZ" sz="1800" spc="-1" strike="noStrike">
                <a:solidFill>
                  <a:srgbClr val="143f7e"/>
                </a:solidFill>
                <a:latin typeface="Arial"/>
              </a:rPr>
              <a:t>Jestliže – P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143f7e"/>
                </a:solidFill>
                <a:latin typeface="Arial"/>
              </a:rPr>
              <a:t>V Jestliže/Pak testu musí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být uvedeny všechny faktory ovlivňující dosažení vyšší úrovně (dosažení vyšší úrovně je podmíněno splněním nižší úrovně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Jestliže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provedeme tyto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Aktivity → 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pak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osáhneme těchto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Výstupů a výsledků → 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Jestliže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jsme dosáhli těchto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Výstupů a výsledků → 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pak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lze očekávat tuto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změnu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(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Účel projektu) → 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Jestliže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jsme splnili tento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Účel projektu → 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pak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jsme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ispěli k naplnění tohoto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obecného cí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obrý projekt má zvolené monitorovací ukazatele přiměřené a realistické, cíle jsou vždy kvantifikované a stanovené cílové hodnoty jsou dosažitelné (z hlediska času a rozpočtu) a vedou k měřitelným dopadů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epředložení LR - 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0 bodů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X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edložení LR – 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3 body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Šipka doprava 5"/>
          <p:cNvSpPr/>
          <p:nvPr/>
        </p:nvSpPr>
        <p:spPr>
          <a:xfrm>
            <a:off x="520560" y="3645000"/>
            <a:ext cx="648000" cy="368280"/>
          </a:xfrm>
          <a:prstGeom prst="rightArrow">
            <a:avLst>
              <a:gd name="adj1" fmla="val 50000"/>
              <a:gd name="adj2" fmla="val 50057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69" name="Šipka doprava 5"/>
          <p:cNvSpPr/>
          <p:nvPr/>
        </p:nvSpPr>
        <p:spPr>
          <a:xfrm>
            <a:off x="500040" y="2698920"/>
            <a:ext cx="647640" cy="36828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pecifické kritérium – Metoda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116000" y="1468440"/>
            <a:ext cx="77040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403280" y="1663560"/>
          <a:ext cx="7201080" cy="4359240"/>
        </p:xfrm>
        <a:graphic>
          <a:graphicData uri="http://schemas.openxmlformats.org/drawingml/2006/table">
            <a:tbl>
              <a:tblPr/>
              <a:tblGrid>
                <a:gridCol w="1800360"/>
                <a:gridCol w="1800000"/>
                <a:gridCol w="1800360"/>
                <a:gridCol w="1800360"/>
              </a:tblGrid>
              <a:tr h="13114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oupec – intervenční logika (strom cílů)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d1131c"/>
                          </a:solidFill>
                          <a:latin typeface="Arial"/>
                        </a:rPr>
                        <a:t>Velmi obecné proč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ktivně měřitelné ukazatele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oupec – zdroje a prostředky k ověření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oupec – vnější předpoklady a rizika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1015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Účel projektu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d1131c"/>
                          </a:solidFill>
                          <a:latin typeface="Arial"/>
                        </a:rPr>
                        <a:t>Proč?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1015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tupy projektu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d1131c"/>
                          </a:solidFill>
                          <a:latin typeface="Arial"/>
                        </a:rPr>
                        <a:t>Co?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1015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tivity projektu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d1131c"/>
                          </a:solidFill>
                          <a:latin typeface="Arial"/>
                        </a:rPr>
                        <a:t>Jak?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73" name="Zahnutá šipka doleva 8"/>
          <p:cNvSpPr/>
          <p:nvPr/>
        </p:nvSpPr>
        <p:spPr>
          <a:xfrm>
            <a:off x="3008160" y="3687840"/>
            <a:ext cx="601920" cy="863640"/>
          </a:xfrm>
          <a:custGeom>
            <a:avLst/>
            <a:gdLst>
              <a:gd name="textAreaLeft" fmla="*/ 80640 w 601920"/>
              <a:gd name="textAreaRight" fmla="*/ 521280 w 601920"/>
              <a:gd name="textAreaTop" fmla="*/ 159480 h 863640"/>
              <a:gd name="textAreaBottom" fmla="*/ 6289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979" stAng="-5400000" swAng="5400000"/>
                <a:lnTo>
                  <a:pt x="21600" y="11741"/>
                </a:lnTo>
                <a:arcTo wR="21600" hR="7979" stAng="0" swAng="3302751"/>
                <a:lnTo>
                  <a:pt x="5400" y="21347"/>
                </a:lnTo>
                <a:lnTo>
                  <a:pt x="0" y="17838"/>
                </a:lnTo>
                <a:lnTo>
                  <a:pt x="5400" y="13823"/>
                </a:lnTo>
                <a:lnTo>
                  <a:pt x="5400" y="15704"/>
                </a:lnTo>
                <a:arcTo wR="21600" hR="7979" stAng="3302751" swAng="-2995518"/>
                <a:lnTo>
                  <a:pt x="20991" y="9860"/>
                </a:lnTo>
                <a:arcTo wR="21600" hR="7979" stAng="-307233" swAng="-5092767"/>
                <a:close/>
              </a:path>
              <a:path fill="darkenLess" w="21600" h="21600">
                <a:moveTo>
                  <a:pt x="0" y="0"/>
                </a:moveTo>
                <a:arcTo wR="21600" hR="7979" stAng="-5400000" swAng="5400000"/>
                <a:lnTo>
                  <a:pt x="21600" y="11741"/>
                </a:lnTo>
                <a:arcTo wR="21600" hR="7979" stAng="0" swAng="-307233"/>
                <a:lnTo>
                  <a:pt x="20991" y="9860"/>
                </a:lnTo>
                <a:arcTo wR="21600" hR="7979" stAng="-307233" swAng="-5092767"/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74" name="Zahnutá šipka doleva 10"/>
          <p:cNvSpPr/>
          <p:nvPr/>
        </p:nvSpPr>
        <p:spPr>
          <a:xfrm>
            <a:off x="3008160" y="2708280"/>
            <a:ext cx="601920" cy="865080"/>
          </a:xfrm>
          <a:custGeom>
            <a:avLst/>
            <a:gdLst>
              <a:gd name="textAreaLeft" fmla="*/ 80640 w 601920"/>
              <a:gd name="textAreaRight" fmla="*/ 521280 w 601920"/>
              <a:gd name="textAreaTop" fmla="*/ 159480 h 865080"/>
              <a:gd name="textAreaBottom" fmla="*/ 63000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979" stAng="-5400000" swAng="5400000"/>
                <a:lnTo>
                  <a:pt x="21600" y="11741"/>
                </a:lnTo>
                <a:arcTo wR="21600" hR="7979" stAng="0" swAng="3302751"/>
                <a:lnTo>
                  <a:pt x="5400" y="21347"/>
                </a:lnTo>
                <a:lnTo>
                  <a:pt x="0" y="17838"/>
                </a:lnTo>
                <a:lnTo>
                  <a:pt x="5400" y="13823"/>
                </a:lnTo>
                <a:lnTo>
                  <a:pt x="5400" y="15704"/>
                </a:lnTo>
                <a:arcTo wR="21600" hR="7979" stAng="3302751" swAng="-2995518"/>
                <a:lnTo>
                  <a:pt x="20991" y="9860"/>
                </a:lnTo>
                <a:arcTo wR="21600" hR="7979" stAng="-307233" swAng="-5092767"/>
                <a:close/>
              </a:path>
              <a:path fill="darkenLess" w="21600" h="21600">
                <a:moveTo>
                  <a:pt x="0" y="0"/>
                </a:moveTo>
                <a:arcTo wR="21600" hR="7979" stAng="-5400000" swAng="5400000"/>
                <a:lnTo>
                  <a:pt x="21600" y="11741"/>
                </a:lnTo>
                <a:arcTo wR="21600" hR="7979" stAng="0" swAng="-307233"/>
                <a:lnTo>
                  <a:pt x="20991" y="9860"/>
                </a:lnTo>
                <a:arcTo wR="21600" hR="7979" stAng="-307233" swAng="-5092767"/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75" name="Zahnutá šipka doleva 11"/>
          <p:cNvSpPr/>
          <p:nvPr/>
        </p:nvSpPr>
        <p:spPr>
          <a:xfrm>
            <a:off x="3008160" y="4724280"/>
            <a:ext cx="601920" cy="865440"/>
          </a:xfrm>
          <a:custGeom>
            <a:avLst/>
            <a:gdLst>
              <a:gd name="textAreaLeft" fmla="*/ 80640 w 601920"/>
              <a:gd name="textAreaRight" fmla="*/ 521280 w 601920"/>
              <a:gd name="textAreaTop" fmla="*/ 159840 h 865440"/>
              <a:gd name="textAreaBottom" fmla="*/ 630360 h 8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979" stAng="-5400000" swAng="5400000"/>
                <a:lnTo>
                  <a:pt x="21600" y="11741"/>
                </a:lnTo>
                <a:arcTo wR="21600" hR="7979" stAng="0" swAng="3302751"/>
                <a:lnTo>
                  <a:pt x="5400" y="21347"/>
                </a:lnTo>
                <a:lnTo>
                  <a:pt x="0" y="17838"/>
                </a:lnTo>
                <a:lnTo>
                  <a:pt x="5400" y="13823"/>
                </a:lnTo>
                <a:lnTo>
                  <a:pt x="5400" y="15704"/>
                </a:lnTo>
                <a:arcTo wR="21600" hR="7979" stAng="3302751" swAng="-2995518"/>
                <a:lnTo>
                  <a:pt x="20991" y="9860"/>
                </a:lnTo>
                <a:arcTo wR="21600" hR="7979" stAng="-307233" swAng="-5092767"/>
                <a:close/>
              </a:path>
              <a:path fill="darkenLess" w="21600" h="21600">
                <a:moveTo>
                  <a:pt x="0" y="0"/>
                </a:moveTo>
                <a:arcTo wR="21600" hR="7979" stAng="-5400000" swAng="5400000"/>
                <a:lnTo>
                  <a:pt x="21600" y="11741"/>
                </a:lnTo>
                <a:arcTo wR="21600" hR="7979" stAng="0" swAng="-307233"/>
                <a:lnTo>
                  <a:pt x="20991" y="9860"/>
                </a:lnTo>
                <a:arcTo wR="21600" hR="7979" stAng="-307233" swAng="-5092767"/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76" name="Zahnutá šipka doprava 7"/>
          <p:cNvSpPr/>
          <p:nvPr/>
        </p:nvSpPr>
        <p:spPr>
          <a:xfrm>
            <a:off x="395280" y="4653000"/>
            <a:ext cx="360360" cy="792000"/>
          </a:xfrm>
          <a:custGeom>
            <a:avLst/>
            <a:gdLst>
              <a:gd name="textAreaLeft" fmla="*/ 48240 w 360360"/>
              <a:gd name="textAreaRight" fmla="*/ 312120 w 360360"/>
              <a:gd name="textAreaTop" fmla="*/ 164160 h 792000"/>
              <a:gd name="textAreaBottom" fmla="*/ 58284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959" stAng="-5400000" swAng="-5400000"/>
                <a:lnTo>
                  <a:pt x="0" y="11414"/>
                </a:lnTo>
                <a:arcTo wR="21600" hR="8959" stAng="10800000" swAng="-3485831"/>
                <a:lnTo>
                  <a:pt x="16200" y="21316"/>
                </a:lnTo>
                <a:lnTo>
                  <a:pt x="21600" y="19146"/>
                </a:lnTo>
                <a:lnTo>
                  <a:pt x="16200" y="16407"/>
                </a:lnTo>
                <a:lnTo>
                  <a:pt x="16200" y="17634"/>
                </a:lnTo>
                <a:arcTo wR="21600" hR="8959" stAng="7314169" swAng="3288825"/>
                <a:lnTo>
                  <a:pt x="204" y="10187"/>
                </a:lnTo>
                <a:arcTo wR="21600" hR="8959" stAng="-10602993" swAng="5202993"/>
                <a:close/>
              </a:path>
              <a:path fill="darkenLess" w="21600" h="21600">
                <a:moveTo>
                  <a:pt x="21600" y="0"/>
                </a:moveTo>
                <a:arcTo wR="21600" hR="8959" stAng="-5400000" swAng="-5400000"/>
                <a:lnTo>
                  <a:pt x="0" y="8959"/>
                </a:lnTo>
                <a:arcTo wR="21600" hR="8959" stAng="10800000" swAng="-197007"/>
                <a:lnTo>
                  <a:pt x="204" y="10187"/>
                </a:lnTo>
                <a:arcTo wR="21600" hR="8959" stAng="-10602993" swAng="5202993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77" name="Zahnutá šipka nahoru 12"/>
          <p:cNvSpPr/>
          <p:nvPr/>
        </p:nvSpPr>
        <p:spPr>
          <a:xfrm>
            <a:off x="395280" y="4653000"/>
            <a:ext cx="549360" cy="647640"/>
          </a:xfrm>
          <a:custGeom>
            <a:avLst/>
            <a:gdLst>
              <a:gd name="textAreaLeft" fmla="*/ 85680 w 549360"/>
              <a:gd name="textAreaRight" fmla="*/ 394920 w 549360"/>
              <a:gd name="textAreaTop" fmla="*/ 86760 h 647640"/>
              <a:gd name="textAreaBottom" fmla="*/ 560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-3313283"/>
                <a:lnTo>
                  <a:pt x="21446" y="4581"/>
                </a:lnTo>
                <a:lnTo>
                  <a:pt x="16200" y="0"/>
                </a:lnTo>
                <a:lnTo>
                  <a:pt x="10646" y="4581"/>
                </a:lnTo>
                <a:lnTo>
                  <a:pt x="13346" y="4581"/>
                </a:lnTo>
                <a:arcTo wR="6750" hR="21600" stAng="2086717" swAng="2847297"/>
                <a:lnTo>
                  <a:pt x="9450" y="19797"/>
                </a:lnTo>
                <a:arcTo wR="6750" hR="21600" stAng="5865986" swAng="4934014"/>
                <a:close/>
              </a:path>
              <a:path fill="darkenLess"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465986"/>
                <a:lnTo>
                  <a:pt x="9450" y="19797"/>
                </a:lnTo>
                <a:arcTo wR="6750" hR="21600" stAng="5865986" swAng="4934014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78" name="AutoShape 44"/>
          <p:cNvSpPr/>
          <p:nvPr/>
        </p:nvSpPr>
        <p:spPr>
          <a:xfrm flipH="1" flipV="1">
            <a:off x="1151640" y="4579200"/>
            <a:ext cx="436680" cy="865080"/>
          </a:xfrm>
          <a:custGeom>
            <a:avLst/>
            <a:gdLst>
              <a:gd name="textAreaLeft" fmla="*/ 58320 w 436680"/>
              <a:gd name="textAreaRight" fmla="*/ 378360 w 436680"/>
              <a:gd name="textAreaTop" fmla="*/ 154080 h 865080"/>
              <a:gd name="textAreaBottom" fmla="*/ 62784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26" stAng="-5400000" swAng="5400000"/>
                <a:lnTo>
                  <a:pt x="21600" y="11825"/>
                </a:lnTo>
                <a:arcTo wR="21600" hR="7726" stAng="0" swAng="2719859"/>
                <a:lnTo>
                  <a:pt x="7200" y="21158"/>
                </a:lnTo>
                <a:lnTo>
                  <a:pt x="0" y="17501"/>
                </a:lnTo>
                <a:lnTo>
                  <a:pt x="7200" y="12959"/>
                </a:lnTo>
                <a:lnTo>
                  <a:pt x="7200" y="15009"/>
                </a:lnTo>
                <a:arcTo wR="21600" hR="7726" stAng="2719859" swAng="-2382635"/>
                <a:lnTo>
                  <a:pt x="20826" y="9775"/>
                </a:lnTo>
                <a:arcTo wR="21600" hR="7726" stAng="-337224" swAng="-5062776"/>
                <a:close/>
              </a:path>
              <a:path fill="darkenLess" w="21600" h="21600">
                <a:moveTo>
                  <a:pt x="0" y="0"/>
                </a:moveTo>
                <a:arcTo wR="21600" hR="7726" stAng="-5400000" swAng="5400000"/>
                <a:lnTo>
                  <a:pt x="21600" y="11825"/>
                </a:lnTo>
                <a:arcTo wR="21600" hR="7726" stAng="0" swAng="-337224"/>
                <a:lnTo>
                  <a:pt x="20826" y="9775"/>
                </a:lnTo>
                <a:arcTo wR="21600" hR="7726" stAng="-337224" swAng="-5062776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79" name="AutoShape 44"/>
          <p:cNvSpPr/>
          <p:nvPr/>
        </p:nvSpPr>
        <p:spPr>
          <a:xfrm flipH="1" flipV="1">
            <a:off x="1162800" y="2482200"/>
            <a:ext cx="436680" cy="865080"/>
          </a:xfrm>
          <a:custGeom>
            <a:avLst/>
            <a:gdLst>
              <a:gd name="textAreaLeft" fmla="*/ 58320 w 436680"/>
              <a:gd name="textAreaRight" fmla="*/ 378360 w 436680"/>
              <a:gd name="textAreaTop" fmla="*/ 154080 h 865080"/>
              <a:gd name="textAreaBottom" fmla="*/ 62784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26" stAng="-5400000" swAng="5400000"/>
                <a:lnTo>
                  <a:pt x="21600" y="11825"/>
                </a:lnTo>
                <a:arcTo wR="21600" hR="7726" stAng="0" swAng="2719859"/>
                <a:lnTo>
                  <a:pt x="7200" y="21158"/>
                </a:lnTo>
                <a:lnTo>
                  <a:pt x="0" y="17501"/>
                </a:lnTo>
                <a:lnTo>
                  <a:pt x="7200" y="12959"/>
                </a:lnTo>
                <a:lnTo>
                  <a:pt x="7200" y="15009"/>
                </a:lnTo>
                <a:arcTo wR="21600" hR="7726" stAng="2719859" swAng="-2382635"/>
                <a:lnTo>
                  <a:pt x="20826" y="9775"/>
                </a:lnTo>
                <a:arcTo wR="21600" hR="7726" stAng="-337224" swAng="-5062776"/>
                <a:close/>
              </a:path>
              <a:path fill="darkenLess" w="21600" h="21600">
                <a:moveTo>
                  <a:pt x="0" y="0"/>
                </a:moveTo>
                <a:arcTo wR="21600" hR="7726" stAng="-5400000" swAng="5400000"/>
                <a:lnTo>
                  <a:pt x="21600" y="11825"/>
                </a:lnTo>
                <a:arcTo wR="21600" hR="7726" stAng="0" swAng="-337224"/>
                <a:lnTo>
                  <a:pt x="20826" y="9775"/>
                </a:lnTo>
                <a:arcTo wR="21600" hR="7726" stAng="-337224" swAng="-5062776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80" name="AutoShape 44"/>
          <p:cNvSpPr/>
          <p:nvPr/>
        </p:nvSpPr>
        <p:spPr>
          <a:xfrm flipH="1" flipV="1">
            <a:off x="1162800" y="3539520"/>
            <a:ext cx="438120" cy="865080"/>
          </a:xfrm>
          <a:custGeom>
            <a:avLst/>
            <a:gdLst>
              <a:gd name="textAreaLeft" fmla="*/ 58680 w 438120"/>
              <a:gd name="textAreaRight" fmla="*/ 379440 w 438120"/>
              <a:gd name="textAreaTop" fmla="*/ 154080 h 865080"/>
              <a:gd name="textAreaBottom" fmla="*/ 62784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26" stAng="-5400000" swAng="5400000"/>
                <a:lnTo>
                  <a:pt x="21600" y="11825"/>
                </a:lnTo>
                <a:arcTo wR="21600" hR="7726" stAng="0" swAng="2719859"/>
                <a:lnTo>
                  <a:pt x="7200" y="21158"/>
                </a:lnTo>
                <a:lnTo>
                  <a:pt x="0" y="17501"/>
                </a:lnTo>
                <a:lnTo>
                  <a:pt x="7200" y="12959"/>
                </a:lnTo>
                <a:lnTo>
                  <a:pt x="7200" y="15009"/>
                </a:lnTo>
                <a:arcTo wR="21600" hR="7726" stAng="2719859" swAng="-2382635"/>
                <a:lnTo>
                  <a:pt x="20826" y="9775"/>
                </a:lnTo>
                <a:arcTo wR="21600" hR="7726" stAng="-337224" swAng="-5062776"/>
                <a:close/>
              </a:path>
              <a:path fill="darkenLess" w="21600" h="21600">
                <a:moveTo>
                  <a:pt x="0" y="0"/>
                </a:moveTo>
                <a:arcTo wR="21600" hR="7726" stAng="-5400000" swAng="5400000"/>
                <a:lnTo>
                  <a:pt x="21600" y="11825"/>
                </a:lnTo>
                <a:arcTo wR="21600" hR="7726" stAng="0" swAng="-337224"/>
                <a:lnTo>
                  <a:pt x="20826" y="9775"/>
                </a:lnTo>
                <a:arcTo wR="21600" hR="7726" stAng="-337224" swAng="-5062776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81" name="TextovéPole 14"/>
          <p:cNvSpPr/>
          <p:nvPr/>
        </p:nvSpPr>
        <p:spPr>
          <a:xfrm>
            <a:off x="3708360" y="3348000"/>
            <a:ext cx="1440000" cy="11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Aby </a:t>
            </a:r>
            <a:endParaRPr b="0" lang="en-US" sz="2400" spc="-1" strike="noStrike">
              <a:solidFill>
                <a:srgbClr val="143f7e"/>
              </a:solidFill>
              <a:latin typeface="Arial"/>
            </a:endParaRPr>
          </a:p>
          <a:p>
            <a:pPr algn="just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Je třeba</a:t>
            </a:r>
            <a:endParaRPr b="0" lang="en-US" sz="24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82" name="TextovéPole 19"/>
          <p:cNvSpPr/>
          <p:nvPr/>
        </p:nvSpPr>
        <p:spPr>
          <a:xfrm>
            <a:off x="-19080" y="4863960"/>
            <a:ext cx="1333440" cy="11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ak </a:t>
            </a:r>
            <a:endParaRPr b="0" lang="en-US" sz="2400" spc="-1" strike="noStrike">
              <a:solidFill>
                <a:srgbClr val="143f7e"/>
              </a:solidFill>
              <a:latin typeface="Arial"/>
            </a:endParaRPr>
          </a:p>
          <a:p>
            <a:pPr algn="just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Jestliže</a:t>
            </a:r>
            <a:endParaRPr b="0" lang="en-US" sz="24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ostup vyplňování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efinovat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obecný (hlavní) cíl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, k jehož naplnění projekt přispěje; cíl, k jehož dosažení je projekt jen jednou z podmínek; důvod realizace ve spojení s prioritami v operačních programech (či programových dodatcích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Uvádíme, k dosažení jakého cíle přispějeme, jestliže splníme účel, pro který    jsme se do projektu pouštěli. Hlavní cíl v logickém rámci by měl odpovídat hlavnímu cíli v daném opatření O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TANOVÉNÍ OBECNÉHO CÍLE - CO CHCEME DOSÁHNOU    OBECNĚ, JESTLIŽE SPLNÍME ÚČ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ro oblast podpory 3. 4 je obecným cílem podpora Rovných příležitostí žen a mužů na trhu práce a slaďování pracovního a rodinného živo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lepšení slaďování rodinného a pracovního života (v regionu XY, v MSP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Šipka doprava 5"/>
          <p:cNvSpPr/>
          <p:nvPr/>
        </p:nvSpPr>
        <p:spPr>
          <a:xfrm>
            <a:off x="493560" y="3589200"/>
            <a:ext cx="648000" cy="368280"/>
          </a:xfrm>
          <a:prstGeom prst="rightArrow">
            <a:avLst>
              <a:gd name="adj1" fmla="val 50000"/>
              <a:gd name="adj2" fmla="val 50057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86" name="Šipka doprava 5"/>
          <p:cNvSpPr/>
          <p:nvPr/>
        </p:nvSpPr>
        <p:spPr>
          <a:xfrm>
            <a:off x="493560" y="5661000"/>
            <a:ext cx="648000" cy="368280"/>
          </a:xfrm>
          <a:prstGeom prst="rightArrow">
            <a:avLst>
              <a:gd name="adj1" fmla="val 50000"/>
              <a:gd name="adj2" fmla="val 50057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Labajová Zuzana, Mgr. (MPSV)</cp:lastModifiedBy>
  <dcterms:modified xsi:type="dcterms:W3CDTF">2011-06-17T12:58:40Z</dcterms:modified>
  <cp:revision>1010</cp:revision>
  <dc:subject/>
  <dc:title>Snímek 1</dc:title>
</cp:coreProperties>
</file>